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23400" y="747720"/>
            <a:ext cx="498636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1BFF-A0CE-4DB3-AE60-239270AFF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F48C-C0CF-4456-B089-1F0771328CA9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AF1-D3A6-4965-B16C-83373AA1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131-30C3-4172-B358-B640A1DE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A29-25A9-4C8C-AB10-BE8CE62F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906-1DD5-43EB-A5E0-9C93EBE2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2296-30A5-4317-8AC4-EAC76F0E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A455-0195-4EDF-95AD-C357A1C5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ADBF-EC05-4C7C-938F-09121E34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8E36-26AF-47DA-894A-E9F6307A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6613-239D-403F-8E79-BE5AD1DB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2968-9E9D-4066-B423-9EB4C5F6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12EA-DBD0-49CB-9531-1B5C347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547-70C8-437B-B5AA-B0EAD8DF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F9CF-DE98-4F17-BCD9-7D734ED7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7A70-972D-40A0-98FD-14CBDCD9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3386-2E87-43C4-BABD-5F5E93AE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116D-5ED6-4494-9D64-4497412D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1CA2-A893-4322-9FAD-01A7D881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DBAB-A2F2-4B5C-9713-B7BFF081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4A964-4ED4-42B7-A5B9-BBA55AD6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12257-25C5-4055-A906-5F822027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9798-450A-4522-802B-64EC9144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D943-0519-42D8-AFC1-75A2EA60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080-E5FE-47C6-8E39-B2A29A9B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B462E-BD37-4F8F-BA38-D9944D0B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FB04-4BA7-4F88-9A26-42450ABA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B873-742C-458C-96C4-608FE21A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9FB6-1131-4CEB-9D8C-FD6A080F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815A-277B-4FF7-A19E-2F371BA7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E8BF-4949-4326-A7A5-61B8D8F1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98C6-D4A2-4FC9-B150-EC1779B2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0C946-2922-440E-9335-72750E4D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EAD7-C836-4C2A-A7E2-95E7E4BC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FD2F-C1A3-4A44-A63F-09EC26F2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03E-4802-436E-B3A5-0877AA0A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5066-DFD2-45D2-8FE2-DE7D8C1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54E5E-E05C-4D35-BC75-257D1FC8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401F-B30B-4212-8A92-78A46F53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8A2C5-C8A7-4F52-BE7A-EED8AAFF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BFCD4-0B88-43D1-B4E4-FB3F5E97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0A711-2971-4234-9C24-BA22D8E8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A87E0-650F-4638-BFB8-EF8A4743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6695E-92CA-4515-9345-432B5781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961A5-6CF3-457D-BD30-E2220758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E92-D428-40BE-B130-6E004057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B92-71FC-4484-8273-4E052DE9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BA8-A74D-4565-A670-F0367F1D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A0A-98A3-4CA8-AA04-3BCAD29A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F4F-C500-4C27-8B44-61B48516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9DAD-ACD2-4B69-8996-5E1F6DA75772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F945-3528-429F-BDF6-725CAFA006F2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E391-7A3F-4A90-BB4C-F6E4BE78A5A4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BBAE-3B46-4428-B2DF-18E3AD9F3095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5B4C-A8E5-415C-96EA-BCD72BFCBCE8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C6AF-7D6C-4287-BEE8-BC61E2F90BCB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EC51-4EC9-419E-807C-BA3A1E93D477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8BDB-E24B-4EDB-8F57-60635BB791ED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2"/>
          <a:stretch/>
        </p:blipFill>
        <p:spPr>
          <a:xfrm>
            <a:off x="1378080" y="1255680"/>
            <a:ext cx="7710480" cy="4157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3957480" y="3606840"/>
            <a:ext cx="19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leh 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5" name="Picture 4" descr="moe TransParent"/>
          <p:cNvPicPr/>
          <p:nvPr/>
        </p:nvPicPr>
        <p:blipFill>
          <a:blip r:embed="rId3"/>
          <a:stretch/>
        </p:blipFill>
        <p:spPr>
          <a:xfrm>
            <a:off x="4492800" y="152280"/>
            <a:ext cx="129852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Slide Number Placeholder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B895-5400-481B-AA42-1F2A972070E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OPT1.jpg"/>
          <p:cNvPicPr/>
          <p:nvPr/>
        </p:nvPicPr>
        <p:blipFill>
          <a:blip r:embed="rId4"/>
          <a:srcRect l="1195" t="2085" r="1853" b="57998"/>
          <a:stretch/>
        </p:blipFill>
        <p:spPr>
          <a:xfrm>
            <a:off x="2865600" y="5275440"/>
            <a:ext cx="44384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CCE9-F735-4865-A096-AFBA4ED5532E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SEKOL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93760" y="917280"/>
            <a:ext cx="856296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Kenal pasti pendapatan ibu bapa/penjaga murid mengikut Paras Garis Kemiskinan (PGK) Nasional berdasarkan Borang Maklumat  Murid (BMM) bagi murid Tahun 1 hingga 5 pada tahun 2011 dan serahkan Borang Permohonan Individu KWAPM.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engumpul semula Borang Permohonan Individu KWAPM yang telah diisi bersama dokumen sokongan: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salinan KP murid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salinan KP ibu bapa / penjaga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urid yang telah menerima KWAPM DSA pada tahun 2011,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tandakan (√) SAMBUNGAN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urid yang baru kali pertama memohon KWAPM DSA,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tandakan (√) PERMOHONAN BARU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1A0C-42AB-42DC-9D92-2D8315C42FC2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4400"/>
            <a:ext cx="8639280" cy="100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SEKOL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3760" y="1135080"/>
            <a:ext cx="818208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Jawatankuasa Pengurusan Bantuan Peringkat Sekolah menyaring setiap permohonan berdasarkan perkara-perkara berikut: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381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-24804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urid </a:t>
            </a:r>
            <a:r>
              <a:rPr b="1" lang="ms-MY" sz="2200" spc="-1" strike="noStrike" u="sng">
                <a:solidFill>
                  <a:srgbClr val="ffff66"/>
                </a:solidFill>
                <a:uFillTx/>
                <a:latin typeface="Arial"/>
              </a:rPr>
              <a:t>BUKAN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 penerima Bantuan Persekolahan dalam bentuk kewangan daripada pihak Yayasan, Kerajaan Negeri dan pihak swasta atau apa-apa elaun seperti dinyatakan dalam SPK Bil 6 Tahun 2010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-24804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Pendapatan keluarga  murid di bawah PGK Nasional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-24804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Bagi permohonan baru, Jawatankuasa Pengurusan Bantuan Peringkat Sekolah perlu melaksanakan pemantaun secara rawak ke rumah murid bagi mengesahkan status kemiskinan.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2" marL="102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381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381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FC27-3274-4F96-9D95-A7CC080F8BC7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SEKOL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3760" y="698040"/>
            <a:ext cx="818208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3840" indent="-3596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mastikan semua maklumat diisi dengan LENGKAP terutamanya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-4834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o Surat Beranak / No Kad Pengenalan murid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 6 aksara bagi No SB, 12 aksara bagi No KP,              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 PERLU tanda sempang atau jarak-space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-4834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ndapatan kasar dan bilangan tanggung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BOLEH diletak ‘0’ (Kosong) atau tiada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-4834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ama dan No KP ibu bapa / penjaga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TIDAK PERLU tanda sempang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atau jarak-space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3840" indent="-3596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nyediakan Borang Rumusan Permohonan (BRP) (Format Baru) dan kemukakan ke JPN/PPD dalam bentuk hardcopy dan softcopy (CD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3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FC82-3061-4EDF-89B7-20E3B8C88038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PEJABAT PELAJARAN DAER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pic>
        <p:nvPicPr>
          <p:cNvPr id="201" name="Rectangle 3" descr=""/>
          <p:cNvPicPr/>
          <p:nvPr/>
        </p:nvPicPr>
        <p:blipFill>
          <a:blip r:embed="rId1"/>
          <a:stretch/>
        </p:blipFill>
        <p:spPr>
          <a:xfrm>
            <a:off x="285840" y="695160"/>
            <a:ext cx="8254800" cy="56134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760F-D2E4-498E-BF9D-A78D54429F73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PEJABAT PELAJARAN DAER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3760" y="698040"/>
            <a:ext cx="818208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0400" indent="-37476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mastikan semua maklumat diisi dengan LENGKAP terutamanya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-50400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o Surat Beranak / No Kad Pengenalan murid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 6 aksara bagi No SB, 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PERLU tanda sempang atau jarak-space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-50400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ndapatan kasar dan bilangan tanggung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BOLEH diletak ‘0’ (Kosong) atau tiada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-50400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ama dan No KP ibu bapa / penjaga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TIDAK PERLU tanda sempang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atau jarak-space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0400" indent="-37476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nyerahkan softcopy (CD) BRP yang telah diselaraskan dan disatukan kepada JPN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0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21B1-CC1E-4E82-8D29-898448712520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JABATAN PELAJARAN NEGERI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pic>
        <p:nvPicPr>
          <p:cNvPr id="209" name="Rectangle 3" descr=""/>
          <p:cNvPicPr/>
          <p:nvPr/>
        </p:nvPicPr>
        <p:blipFill>
          <a:blip r:embed="rId1"/>
          <a:stretch/>
        </p:blipFill>
        <p:spPr>
          <a:xfrm>
            <a:off x="285840" y="695160"/>
            <a:ext cx="8254800" cy="5613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D0C6-E1A4-4EE5-BFDF-A1708F6183ED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JABATAN PELAJARAN NEGERI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3400" y="698040"/>
            <a:ext cx="831852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7800" indent="-3632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mastikan semua maklumat diisi dengan LENGKAP terutamanya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-48852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o Surat Beranak / No Kad Pengenalan murid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 6 aksara bagi No SB, 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PERLU tanda sempang atau jarak-space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-48852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ndapatan kasar dan bilangan tanggung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BOLEH diletak ‘0’ (Kosong) atau tiada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-48852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ama dan No KP ibu bapa / penjaga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TIDAK PERLU tanda sempang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atau jarak-space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7800" indent="-3632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nyerahkan softcopy (CD) BRP yang telah diselaraskan dan disatukan kepada Bahagian Kewangan, Kementerian Pelajaran Malaysia untuk pembayar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selewat-lewatnya pada 15 Oktober 2011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7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3078-DAAB-4DAD-9776-2098720F3EFA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6880" y="55440"/>
            <a:ext cx="8639280" cy="136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MOHONAN MURID TAHUN 1 DAN TINGKATAN 1 TAHUN 2012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2000" y="1517400"/>
            <a:ext cx="831852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rmohonan bagi murid Tahun 1 dan Tingkatan 1 adalah mengguna pakai kaedah yang sama seperti di atas tetapi dilaksanakan mulai bulan Januari 2012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JPN perlu menyerahkan </a:t>
            </a:r>
            <a:r>
              <a:rPr b="1" i="1" lang="ms-MY" sz="2000" spc="-1" strike="noStrike">
                <a:solidFill>
                  <a:srgbClr val="ffff66"/>
                </a:solidFill>
                <a:latin typeface="Arial"/>
              </a:rPr>
              <a:t>softcopy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(CD) BRP yang telah diselaraskan dan disatukan kepada Bahagian Kewangan, Kementerian Pelajaran Malaysia selewat-lewatnya pada 28 Februari 2012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4:34:52Z</dcterms:created>
  <dc:creator> </dc:creator>
  <dc:description/>
  <dc:language>en-US</dc:language>
  <cp:lastModifiedBy>Mohd Rizlan Dagang</cp:lastModifiedBy>
  <dcterms:modified xsi:type="dcterms:W3CDTF">2011-08-02T05:57:42Z</dcterms:modified>
  <cp:revision>430</cp:revision>
  <dc:subject/>
  <dc:title>Slide 1</dc:title>
</cp:coreProperties>
</file>