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96640" y="692280"/>
            <a:ext cx="46162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88C0-14F7-4D9D-B333-ACC20BD47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6380-632C-41A4-B82F-76EDC7DFFD9E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DDB-34D9-4FD6-BB1A-E640D278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9C8-1F81-4B67-A0A7-B638D66C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432-3509-4C0E-8CDB-01E51BFE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451-B6BD-4AD4-809A-ACA550AB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D6BD-B4FC-4287-B0B1-C0FAD938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D409-42C8-46B2-AA5F-14092773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0C6B-BCD1-4344-B5F7-3BC4C71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4997-ED7B-4DFC-941E-BB542B1C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360F-AC95-4DBC-819C-BCAC5E5B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0FEB-43E3-4572-9AA4-DC9C8098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32B0-3204-4D68-9B84-78B4CD9F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861-08F9-41D7-A6D1-F757BD9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6487-8975-4A75-B810-033ADDE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78CA-7133-4C69-BCA6-5AAC0E96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1C26-8304-4CD2-9265-0097846B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4F30-1F2E-4D63-B75B-0FB56E8E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6415-914F-45BF-AA87-A9958605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682C-DB18-43E1-8A15-2E2478BB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33E6F-41D1-4E1E-B08E-A3F23BCC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6AD1-58E1-4083-8F6B-AA21893C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E561-8AFE-472C-87DA-D3763AC3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7EAD-8F4A-4063-AD70-4F68B723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FE5-1F2B-4A03-A1BB-DA736017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8428-9F01-4315-A0F8-8FFA4384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F406-1781-451F-A4AC-BA0D7CB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7A68-EE64-4EBF-B8DC-EE578E52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60C5-CD9C-4692-9025-AC34C66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186B-1748-446A-AECE-17B68C1B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2911-1DF5-4E68-A885-5AF22FB3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6358-9F83-4859-A101-730EC7DC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14352-2F2A-4952-B7DA-AADC8BA2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DABC-3BDF-466D-B284-A2FEE541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7C7D-1BEE-4B5A-B66E-B18AB23B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8A4-3D2B-49C3-A7A0-751B7187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2728F-CDEB-41B8-B85B-EC039FE7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3E43B-AC70-4837-AEA0-2F78B6B2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AE1B9-A16F-422B-A344-42516ADF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90338-CA75-4DC7-B0AA-205A5359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7EF6-BAA7-4E2A-BD51-E0A5CE2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7FB5-1DCE-42AB-B3E5-08C9882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ED06-34C9-4C28-9FBC-0BD11EA6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B1400-4BE2-4E20-8F08-48426615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3C82-0087-44A5-8960-385CAB88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89F-DF0D-4B33-A5AC-658B5542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56A-AFA5-474B-94EC-7134429C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D6C-A398-4154-A12A-CA2AC4B5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3C3-4202-43C4-91EA-A19E7A70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5F5-6187-4F22-9D46-10538F04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F56-5B56-4F1A-9ADB-98CDE4CD8DA3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02D7-14B5-4C42-B4A4-37C8F44D46BF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5193-1C4F-4AE4-96EB-2BB4F51C2A58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141F-3F2B-4D7F-883C-2E002699038A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0F13-21F5-493A-B569-6CFE928E5B7F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C881-1065-4D0E-B32C-5C6C10B08D07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E11E-982B-4B01-9F84-915A0D96280D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6A0D-ACC3-4ADC-8032-AE51251E3050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2"/>
          <a:stretch/>
        </p:blipFill>
        <p:spPr>
          <a:xfrm>
            <a:off x="1725480" y="1530360"/>
            <a:ext cx="7223400" cy="479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oe TransParent"/>
          <p:cNvPicPr/>
          <p:nvPr/>
        </p:nvPicPr>
        <p:blipFill>
          <a:blip r:embed="rId3"/>
          <a:stretch/>
        </p:blipFill>
        <p:spPr>
          <a:xfrm>
            <a:off x="4492800" y="152280"/>
            <a:ext cx="1298520" cy="114300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D70E-4932-4F2D-8D2A-3AC08DC6810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9920" y="-360"/>
            <a:ext cx="7467480" cy="94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4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560" y="1165320"/>
            <a:ext cx="86072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rutusan Pengerusi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ngesahan Minit Mesyuarat Bil. 2 Tahun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rbincangan Isu KWAPM 2011 dan 201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)    Status Pembayaran KWAPM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i)    Format Permohonan KWAPM 201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ii)   Cadangan Pembekalan Pakaian &amp; Aksesori   Sekolah Bagi Bantuan KWAPM Tahun 201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v)   Teguran SPRM – Pemeriksaan Amalan, Sistem dan Prosedur Kerja Pengagihan Bantuan KWAPM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rbincangan awal deraf SPK Baru KWAPM Tahun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Hal-hal lai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nutup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9269-A534-4D22-9283-269FDF4CB503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87160" y="24220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4600" spc="-1" strike="noStrike">
                <a:solidFill>
                  <a:srgbClr val="ffffff"/>
                </a:solidFill>
                <a:latin typeface="Arial"/>
              </a:rPr>
              <a:t>MINIT MESYUARAT BIL. 2 TAHUN 2011 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3246-AF70-48FE-A695-B62347489513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C:\Program Files\Microsoft Office\MEDIA\CAGCAT10\j0293236.wmf"/>
          <p:cNvPicPr/>
          <p:nvPr/>
        </p:nvPicPr>
        <p:blipFill>
          <a:blip r:embed="rId1"/>
          <a:stretch/>
        </p:blipFill>
        <p:spPr>
          <a:xfrm>
            <a:off x="3005280" y="441972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2CFB-7544-44A8-89D0-725DB68936BE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18900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US PEMBAYARAN KWAPM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440" y="942840"/>
          <a:ext cx="9042480" cy="5507280"/>
        </p:xfrm>
        <a:graphic>
          <a:graphicData uri="http://schemas.openxmlformats.org/drawingml/2006/table">
            <a:tbl>
              <a:tblPr/>
              <a:tblGrid>
                <a:gridCol w="333360"/>
                <a:gridCol w="1001880"/>
                <a:gridCol w="1627200"/>
                <a:gridCol w="898560"/>
                <a:gridCol w="2001600"/>
                <a:gridCol w="828720"/>
                <a:gridCol w="1524240"/>
                <a:gridCol w="826920"/>
              </a:tblGrid>
              <a:tr h="333000">
                <a:tc row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BIL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row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NEGERI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grid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EKASIH TAHUN 1 TINGKATAN 1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ATA SEDIA ADA (DSA) DARJAH 3-6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ATA SEDIA ADA (DSA) DARJAH 1-2 &amp; TING 1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IHANTAR UNTUK UPLOAD SISKWAPM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UNIT KEWANGAN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IHANTAR UNTUK UPLOAD SISKWAPM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UNIT KEWANGAN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IHANTAR UNTUK UPLOAD SISKWAPM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UNIT KEWANGAN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KEDAH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875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SABAH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 </a:t>
                      </a: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13/7/2011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belum terima 3 daerah, semporna Kinabatangan dan beaufort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belum terima 3 daerah, semporna Kinabatangan dan beaufort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171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ERENGGANU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proses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LABU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iada permohon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ermohonan baru sampai (18/7/2011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6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ULAU PINANG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ERLI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KELANT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NEGERI SEMBIL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640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9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ERAK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MELAKA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 (gabung seluruh daerah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 (gabung seluruh daerah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6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KUALA LUMPUR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60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SARAWAK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JOHOR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 (gabung seluruh daerah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640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AHANG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iada permohon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SELANGOR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160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UTRAJAYA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iada permohon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1F0A-92E7-42C5-AA23-ED00035F473E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6" name="Rectangle 24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45520" cy="774720"/>
          </a:xfrm>
          <a:prstGeom prst="rect">
            <a:avLst/>
          </a:prstGeom>
          <a:ln w="0">
            <a:noFill/>
          </a:ln>
        </p:spPr>
      </p:pic>
      <p:pic>
        <p:nvPicPr>
          <p:cNvPr id="197" name="Group 4" descr=""/>
          <p:cNvPicPr/>
          <p:nvPr/>
        </p:nvPicPr>
        <p:blipFill>
          <a:blip r:embed="rId2"/>
          <a:stretch/>
        </p:blipFill>
        <p:spPr>
          <a:xfrm>
            <a:off x="2305080" y="1712880"/>
            <a:ext cx="4572000" cy="3322800"/>
          </a:xfrm>
          <a:prstGeom prst="rect">
            <a:avLst/>
          </a:prstGeom>
          <a:ln w="0">
            <a:noFill/>
          </a:ln>
        </p:spPr>
      </p:pic>
      <p:pic>
        <p:nvPicPr>
          <p:cNvPr id="198" name="Text Box 6" descr=""/>
          <p:cNvPicPr/>
          <p:nvPr/>
        </p:nvPicPr>
        <p:blipFill>
          <a:blip r:embed="rId3"/>
          <a:stretch/>
        </p:blipFill>
        <p:spPr>
          <a:xfrm>
            <a:off x="828720" y="4181400"/>
            <a:ext cx="3157560" cy="536760"/>
          </a:xfrm>
          <a:prstGeom prst="rect">
            <a:avLst/>
          </a:prstGeom>
          <a:ln w="0">
            <a:noFill/>
          </a:ln>
        </p:spPr>
      </p:pic>
      <p:pic>
        <p:nvPicPr>
          <p:cNvPr id="199" name="Text Box 6" descr=""/>
          <p:cNvPicPr/>
          <p:nvPr/>
        </p:nvPicPr>
        <p:blipFill>
          <a:blip r:embed="rId4"/>
          <a:stretch/>
        </p:blipFill>
        <p:spPr>
          <a:xfrm>
            <a:off x="5022720" y="4108320"/>
            <a:ext cx="3157560" cy="542880"/>
          </a:xfrm>
          <a:prstGeom prst="rect">
            <a:avLst/>
          </a:prstGeom>
          <a:ln w="0">
            <a:noFill/>
          </a:ln>
        </p:spPr>
      </p:pic>
      <p:sp>
        <p:nvSpPr>
          <p:cNvPr id="200" name="Down Arrow 11"/>
          <p:cNvSpPr/>
          <p:nvPr/>
        </p:nvSpPr>
        <p:spPr>
          <a:xfrm>
            <a:off x="2684520" y="3265560"/>
            <a:ext cx="485640" cy="9777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Down Arrow 14"/>
          <p:cNvSpPr/>
          <p:nvPr/>
        </p:nvSpPr>
        <p:spPr>
          <a:xfrm>
            <a:off x="5748480" y="3208320"/>
            <a:ext cx="477720" cy="9428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75FF-2263-44FD-B76D-3F61FB439643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03" name="Rectangle 24" descr=""/>
          <p:cNvPicPr/>
          <p:nvPr/>
        </p:nvPicPr>
        <p:blipFill>
          <a:blip r:embed="rId1"/>
          <a:stretch/>
        </p:blipFill>
        <p:spPr>
          <a:xfrm>
            <a:off x="360360" y="158760"/>
            <a:ext cx="8345520" cy="895320"/>
          </a:xfrm>
          <a:prstGeom prst="rect">
            <a:avLst/>
          </a:prstGeom>
          <a:ln w="0">
            <a:noFill/>
          </a:ln>
        </p:spPr>
      </p:pic>
      <p:pic>
        <p:nvPicPr>
          <p:cNvPr id="204" name="Group 4" descr=""/>
          <p:cNvPicPr/>
          <p:nvPr/>
        </p:nvPicPr>
        <p:blipFill>
          <a:blip r:embed="rId2"/>
          <a:stretch/>
        </p:blipFill>
        <p:spPr>
          <a:xfrm>
            <a:off x="2000160" y="1292400"/>
            <a:ext cx="46562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363600" y="2911320"/>
          <a:ext cx="8447040" cy="3292560"/>
        </p:xfrm>
        <a:graphic>
          <a:graphicData uri="http://schemas.openxmlformats.org/drawingml/2006/table">
            <a:tbl>
              <a:tblPr/>
              <a:tblGrid>
                <a:gridCol w="711000"/>
                <a:gridCol w="3716640"/>
                <a:gridCol w="401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</a:t>
                      </a:r>
                      <a:endParaRPr b="0" lang="en-US" sz="2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b23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LEBIHAN</a:t>
                      </a:r>
                      <a:endParaRPr b="0" lang="en-US" sz="2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b23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KURANGAN</a:t>
                      </a:r>
                      <a:endParaRPr b="0" lang="en-US" sz="2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b23b7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antuan dimanfaatkan sepenuhnya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iada baki wang KWAPM untuk Bayaran Tambahan Persekolahan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lah guna wang bantuan dapat dielakkan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ngumpulan data dan saiz baju memakan masa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gihan peralatan sekolah terus ke sekolah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Kelewatan penghantaran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Kualiti dan kuantiti barangan dapat dikawal kerana daripada sumber yang sama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iz yang tidak bersesuaian / tidak tepat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3114-740E-4293-AB39-86F777B7CF69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07" name="Rectangle 24" descr=""/>
          <p:cNvPicPr/>
          <p:nvPr/>
        </p:nvPicPr>
        <p:blipFill>
          <a:blip r:embed="rId1"/>
          <a:stretch/>
        </p:blipFill>
        <p:spPr>
          <a:xfrm>
            <a:off x="255600" y="328680"/>
            <a:ext cx="8656560" cy="1469880"/>
          </a:xfrm>
          <a:prstGeom prst="rect">
            <a:avLst/>
          </a:prstGeom>
          <a:ln w="0">
            <a:noFill/>
          </a:ln>
        </p:spPr>
      </p:pic>
      <p:pic>
        <p:nvPicPr>
          <p:cNvPr id="208" name="Group 4" descr=""/>
          <p:cNvPicPr/>
          <p:nvPr/>
        </p:nvPicPr>
        <p:blipFill>
          <a:blip r:embed="rId2"/>
          <a:stretch/>
        </p:blipFill>
        <p:spPr>
          <a:xfrm>
            <a:off x="2230560" y="2700360"/>
            <a:ext cx="45720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9836-E328-42B6-A446-3E1063BBA828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10" name="Rectangle 24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45520" cy="774720"/>
          </a:xfrm>
          <a:prstGeom prst="rect">
            <a:avLst/>
          </a:prstGeom>
          <a:ln w="0">
            <a:noFill/>
          </a:ln>
        </p:spPr>
      </p:pic>
      <p:pic>
        <p:nvPicPr>
          <p:cNvPr id="211" name="Group 4" descr=""/>
          <p:cNvPicPr/>
          <p:nvPr/>
        </p:nvPicPr>
        <p:blipFill>
          <a:blip r:embed="rId2"/>
          <a:stretch/>
        </p:blipFill>
        <p:spPr>
          <a:xfrm>
            <a:off x="2305080" y="1712880"/>
            <a:ext cx="4572000" cy="3322800"/>
          </a:xfrm>
          <a:prstGeom prst="rect">
            <a:avLst/>
          </a:prstGeom>
          <a:ln w="0">
            <a:noFill/>
          </a:ln>
        </p:spPr>
      </p:pic>
      <p:pic>
        <p:nvPicPr>
          <p:cNvPr id="212" name="Text Box 6" descr=""/>
          <p:cNvPicPr/>
          <p:nvPr/>
        </p:nvPicPr>
        <p:blipFill>
          <a:blip r:embed="rId3"/>
          <a:stretch/>
        </p:blipFill>
        <p:spPr>
          <a:xfrm>
            <a:off x="828720" y="4181400"/>
            <a:ext cx="3157560" cy="536760"/>
          </a:xfrm>
          <a:prstGeom prst="rect">
            <a:avLst/>
          </a:prstGeom>
          <a:ln w="0">
            <a:noFill/>
          </a:ln>
        </p:spPr>
      </p:pic>
      <p:pic>
        <p:nvPicPr>
          <p:cNvPr id="213" name="Text Box 6" descr=""/>
          <p:cNvPicPr/>
          <p:nvPr/>
        </p:nvPicPr>
        <p:blipFill>
          <a:blip r:embed="rId4"/>
          <a:stretch/>
        </p:blipFill>
        <p:spPr>
          <a:xfrm>
            <a:off x="5022720" y="4108320"/>
            <a:ext cx="3157560" cy="542880"/>
          </a:xfrm>
          <a:prstGeom prst="rect">
            <a:avLst/>
          </a:prstGeom>
          <a:ln w="0">
            <a:noFill/>
          </a:ln>
        </p:spPr>
      </p:pic>
      <p:sp>
        <p:nvSpPr>
          <p:cNvPr id="214" name="Down Arrow 11"/>
          <p:cNvSpPr/>
          <p:nvPr/>
        </p:nvSpPr>
        <p:spPr>
          <a:xfrm>
            <a:off x="2684520" y="3265560"/>
            <a:ext cx="485640" cy="9777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5" name="Down Arrow 14"/>
          <p:cNvSpPr/>
          <p:nvPr/>
        </p:nvSpPr>
        <p:spPr>
          <a:xfrm>
            <a:off x="5748480" y="3208320"/>
            <a:ext cx="477720" cy="9428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8BCD-C6A7-4438-BF8C-60F7C47E9B7C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17" name="Rectangle 24" descr=""/>
          <p:cNvPicPr/>
          <p:nvPr/>
        </p:nvPicPr>
        <p:blipFill>
          <a:blip r:embed="rId1"/>
          <a:stretch/>
        </p:blipFill>
        <p:spPr>
          <a:xfrm>
            <a:off x="237960" y="2341440"/>
            <a:ext cx="83455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4:34:52Z</dcterms:created>
  <dc:creator>sue</dc:creator>
  <dc:description/>
  <dc:language>en-US</dc:language>
  <cp:lastModifiedBy>Lenovo User</cp:lastModifiedBy>
  <dcterms:modified xsi:type="dcterms:W3CDTF">2011-07-19T00:24:37Z</dcterms:modified>
  <cp:revision>365</cp:revision>
  <dc:subject/>
  <dc:title>Slide 1</dc:title>
</cp:coreProperties>
</file>